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AD9BA-06FB-4BE3-BCB8-219BDB8BC9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1146240" y="685800"/>
            <a:ext cx="457020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PlaceHolder 1"/>
          <p:cNvSpPr>
            <a:spLocks noGrp="1"/>
          </p:cNvSpPr>
          <p:nvPr>
            <p:ph type="body"/>
          </p:nvPr>
        </p:nvSpPr>
        <p:spPr>
          <a:xfrm>
            <a:off x="685800" y="4343400"/>
            <a:ext cx="5487840" cy="4116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Lucida Sans Unicode"/>
              </a:rPr>
              <a:t>Welcome to SEC103 on Secure Programming Techniques.  In this course, I assume that you have some background in computer security, but now you want to put that background to use.  For example, in the Computer Security Principles and Introduction To Cryptography courses, we cover topics such concerning trust and encryption.  In this course, we put these principles into to practice, and I’ll show you have to write secure code that builds security into your applications from the grou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334F29E-403A-4B79-BD7D-7886DF2EBC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9B2AAFC-FDE8-421B-9882-8ED7857ADA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D349B47-DB51-43DE-9E15-D787863B76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362EC4B-E4E1-4DA0-AD54-AC45FC50E8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9E3E9F-71E2-409D-9B32-475DB62850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B1A299-E726-4FD8-B907-C297769D20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5193DB-2990-4126-91DD-411B1DB8EB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5A5C15-4FC0-4C33-9851-66F9FECA87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6524B8-9560-45DE-B59A-B0E6525621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8DF369-E8B4-4B9E-8F4D-C15E4BDCB5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1F4F3-51CD-441F-8ED4-BA533FE54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D7F347-274D-4CB6-B0F2-51804B57FC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74680-F96E-4AA3-B24C-668C9E762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AA8C48-F019-4EFE-BBE9-BFB87CB71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A0C54B-0BBB-4F71-9962-6B78AEA03D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AEF63B-418F-446D-AA15-2A9F0D4551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C53849-E432-417F-B51F-2D3B79482C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52FF3D-43A9-417B-BD26-CE559F7E64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1D81FB-3F6C-4B0A-974B-B745DA8B83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31EA68-48B7-48E7-97ED-AE5B4AECCE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D18835-ABC3-4FBA-82AF-FE22470F27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4354B3-22F4-4190-91F0-387BD0E578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F36A8E-EDB3-4A2F-9EC7-F3FC69E319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FD3D9E-93CA-4B12-BFC5-90E8C8A89FD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58105-A033-451C-B987-0EE81663B07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B7630-D597-47E2-B717-4EBE0841DEF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752480"/>
            <a:ext cx="7772400" cy="147024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6300"/>
            </a:br>
            <a:r>
              <a:rPr b="0" lang="en-GB" sz="4000" spc="-1" strike="noStrike">
                <a:solidFill>
                  <a:srgbClr val="000000"/>
                </a:solidFill>
                <a:latin typeface="Arial"/>
                <a:ea typeface="Lucida Sans Unicode"/>
              </a:rPr>
              <a:t>C</a:t>
            </a:r>
            <a:r>
              <a:rPr b="0" lang="en-GB" sz="3200" spc="-1" strike="noStrike">
                <a:solidFill>
                  <a:srgbClr val="000000"/>
                </a:solidFill>
                <a:latin typeface="Arial"/>
                <a:ea typeface="Lucida Sans Unicode"/>
              </a:rPr>
              <a:t>HAPTER</a:t>
            </a:r>
            <a:r>
              <a:rPr b="0" lang="en-GB" sz="4600" spc="-1" strike="noStrike">
                <a:solidFill>
                  <a:srgbClr val="000000"/>
                </a:solidFill>
                <a:latin typeface="Arial"/>
                <a:ea typeface="Lucida Sans Unicode"/>
              </a:rPr>
              <a:t> </a:t>
            </a:r>
            <a:r>
              <a:rPr b="0" lang="en-GB" sz="4000" spc="-1" strike="noStrike">
                <a:solidFill>
                  <a:srgbClr val="000000"/>
                </a:solidFill>
                <a:latin typeface="Arial"/>
                <a:ea typeface="Lucida Sans Unicode"/>
              </a:rPr>
              <a:t>16</a:t>
            </a:r>
            <a:r>
              <a:rPr b="0" lang="en-GB" sz="6300" spc="-1" strike="noStrike">
                <a:solidFill>
                  <a:srgbClr val="000000"/>
                </a:solidFill>
                <a:latin typeface="Arial"/>
                <a:ea typeface="Lucida Sans Unicode"/>
              </a:rPr>
              <a:t> </a:t>
            </a:r>
            <a:br>
              <a:rPr sz="6300"/>
            </a:br>
            <a:r>
              <a:rPr b="0" lang="en-GB" sz="6000" spc="-1" strike="noStrike">
                <a:solidFill>
                  <a:srgbClr val="000000"/>
                </a:solidFill>
                <a:latin typeface="Arial"/>
                <a:ea typeface="Lucida Sans Unicode"/>
              </a:rPr>
              <a:t>Exercises for Part 3</a:t>
            </a:r>
            <a:endParaRPr b="0" lang="en-US" sz="6000" spc="-1" strike="noStrike">
              <a:solidFill>
                <a:srgbClr val="000000"/>
              </a:solidFill>
              <a:latin typeface="Arial"/>
            </a:endParaRPr>
          </a:p>
        </p:txBody>
      </p:sp>
      <p:pic>
        <p:nvPicPr>
          <p:cNvPr id="113" name="" descr=""/>
          <p:cNvPicPr/>
          <p:nvPr/>
        </p:nvPicPr>
        <p:blipFill>
          <a:blip r:embed="rId1"/>
          <a:stretch/>
        </p:blipFill>
        <p:spPr>
          <a:xfrm>
            <a:off x="7238880" y="4648320"/>
            <a:ext cx="1371600" cy="1828800"/>
          </a:xfrm>
          <a:prstGeom prst="rect">
            <a:avLst/>
          </a:prstGeom>
          <a:ln w="0">
            <a:noFill/>
          </a:ln>
        </p:spPr>
      </p:pic>
      <p:sp>
        <p:nvSpPr>
          <p:cNvPr id="114" name=""/>
          <p:cNvSpPr/>
          <p:nvPr/>
        </p:nvSpPr>
        <p:spPr>
          <a:xfrm>
            <a:off x="304920" y="5105520"/>
            <a:ext cx="7086600" cy="12952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Arial"/>
              </a:rPr>
              <a:t>Slides adapted from "Foundations of Security: What Every Programmer Needs To Know" by Neil Daswani, Christoph Kern, and Anita Kesavan (ISBN 1590597842; </a:t>
            </a:r>
            <a:r>
              <a:rPr b="0" lang="en-GB" sz="1700" spc="-1" strike="noStrike">
                <a:solidFill>
                  <a:srgbClr val="666699"/>
                </a:solidFill>
                <a:latin typeface="Arial"/>
              </a:rPr>
              <a:t>http://www.foundationsofsecurity.com</a:t>
            </a:r>
            <a:r>
              <a:rPr b="0" lang="en-GB" sz="1700" spc="-1" strike="noStrike">
                <a:solidFill>
                  <a:srgbClr val="000000"/>
                </a:solidFill>
                <a:latin typeface="Arial"/>
              </a:rPr>
              <a:t>). </a:t>
            </a:r>
            <a:r>
              <a:rPr b="0" lang="en-US" sz="1700" spc="-1" strike="noStrike">
                <a:solidFill>
                  <a:srgbClr val="000000"/>
                </a:solidFill>
                <a:latin typeface="Arial"/>
              </a:rPr>
              <a:t>Except as otherwise noted, the content of this presentation is licensed under the Creative Commons 3.0 License.</a:t>
            </a:r>
            <a:endParaRPr b="0" lang="en-US" sz="17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 Exercises</a:t>
            </a: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three advantages/disadvantages of using a web of trust model vs. using a certificate authority–based trust mode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how you can use symmetric encryption to achieve (a) authentication, (b) confidentiality, and (c) message integri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ming Problem</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the </a:t>
            </a:r>
            <a:r>
              <a:rPr b="0" lang="en-US" sz="2800" spc="-1" strike="noStrike">
                <a:solidFill>
                  <a:srgbClr val="000000"/>
                </a:solidFill>
                <a:latin typeface="Courier New"/>
              </a:rPr>
              <a:t>AESEncrypter</a:t>
            </a:r>
            <a:r>
              <a:rPr b="0" lang="en-US" sz="2800" spc="-1" strike="noStrike">
                <a:solidFill>
                  <a:srgbClr val="000000"/>
                </a:solidFill>
                <a:latin typeface="Arial"/>
              </a:rPr>
              <a:t> program of Section 12.1.6 to compute and verify a MAC on the message in addition to encrypting and decrypting data. Be sure to use different keys for the encryption and MAC comput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arker Student</cp:lastModifiedBy>
  <dcterms:modified xsi:type="dcterms:W3CDTF">2008-06-20T22:20:02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